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AF4B2-2C0F-46E1-94C3-0277F2D31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F9AF4-B572-4E65-A657-2DCC45EC9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69326-D1C6-42A8-97AC-28A2CEBEC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C8035-4461-491A-9F6B-516C01BEA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72517-451E-4CEC-AD4C-5F50F8510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7B063-2EDE-47F3-82F5-323C261D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6444-444B-4B7A-B17B-EFA1659F5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C4A1E-1A3A-4EF6-96E8-A95304094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BB19B-3CD3-43AE-A140-35DEFA43E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AC8AA-468B-4CC9-A437-3F578B860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296BA-13C4-4483-A17E-BC6BDC6AD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C3B7-1F30-4A07-A46C-7BBC073C9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1179-52BD-4961-AC84-BC9AD9C78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T 205</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ylorism and Scientific Management </a:t>
            </a:r>
            <a:r>
              <a:rPr b="0" lang="en-US" sz="2800" spc="-1" strike="noStrike">
                <a:solidFill>
                  <a:srgbClr val="000000"/>
                </a:solidFill>
                <a:latin typeface="Times New Roman"/>
              </a:rPr>
              <a:t>(Robins &amp; Webster, 1999)</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of engineering principles to the industrial system of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motion studies to ensure effici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y work to be planned, coordinated, &amp; controlled under expert di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centralized/controlled in planning departments = potential for surveillance + controlling production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Labour Market</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e 1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employ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sala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e producti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erson services</a:t>
            </a: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long lear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consul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 pa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ic analytic servic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twork Society</a:t>
            </a:r>
            <a:br>
              <a:rPr sz="4400"/>
            </a:br>
            <a:r>
              <a:rPr b="0" lang="en-US" sz="4400" spc="-1" strike="noStrike">
                <a:solidFill>
                  <a:srgbClr val="000000"/>
                </a:solidFill>
                <a:latin typeface="Times New Roman"/>
              </a:rPr>
              <a:t>Castells (1997)</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formation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enterpris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ation of work: flexi-worke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polarization/social excl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ess ti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of f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Economy</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ity is derived from the application of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capacity to assemble information and distribute it in a flexible, adaptable way aided by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y skilled, mobile labour key resource for any compan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ic versus self programmable labou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ovation</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create new products &amp;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of shared inform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al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itorial concentrations of innovation and production – Silicon Valle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assification</a:t>
            </a:r>
            <a:br>
              <a:rPr sz="4400"/>
            </a:b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l economy = mass production, mass consumption econom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mass manufacturing factories put out identical objects by the mill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economy=demassified production </a:t>
            </a:r>
            <a:r>
              <a:rPr b="0" lang="en-US" sz="3200" spc="-1" strike="noStrike">
                <a:solidFill>
                  <a:srgbClr val="000000"/>
                </a:solidFill>
                <a:latin typeface="Times New Roman"/>
              </a:rPr>
              <a:t>	</a:t>
            </a:r>
            <a:r>
              <a:rPr b="0" lang="en-US" sz="3200" spc="-1" strike="noStrike">
                <a:solidFill>
                  <a:srgbClr val="000000"/>
                </a:solidFill>
                <a:latin typeface="Times New Roman"/>
              </a:rPr>
              <a:t>short runs; customized produ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mp; media services=segmented, individual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ual Role of Digital Innov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Innovation plays two important roles in the ‘New Economy’: 1) the labour-saving component of digital innovation refers to the possibility of substituting new digital/robotic technologies for workers; 2) the labour-creating component refers to the direct products and services that are involved in generating these new technolog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bour-saving Role of Digital Innovation</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are always trying to employ the most effective mix of labour and technology.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 brief, when labour is expensive, it becomes more attractive to employ new technologies in order to substitute for the high-cost of workers (and when labour is cheap, it makes sense to produce goods in a labour-intensive wa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bour-creating Role of Digital Innovation </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digital technology is being used to replace ‘old’/expensive manufacturing workers, the ‘New Economy’ is centered on knowledge-intensive, R&amp;D services that are needed to design, produce and market these very same digital technolog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 Implications:Narrowcasting</a:t>
            </a:r>
            <a:br>
              <a:rPr sz="4400"/>
            </a:b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che-fixated, small-audience specialty channe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Vo – digital recorders that search t.v. schedules &amp; save only programs suiting user’s tas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downloading &amp; iPods with individual play lis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amp; subscriptions to Web services aligned with own beliefs &amp; bias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that TiVo data on what viewers watch can be used by advertisers to hyper-target advertising to individual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sence of Network Technology</a:t>
            </a:r>
            <a:br>
              <a:rPr sz="4400"/>
            </a:br>
            <a:r>
              <a:rPr b="0" lang="en-US" sz="4400" spc="-1" strike="noStrike">
                <a:solidFill>
                  <a:srgbClr val="000000"/>
                </a:solidFill>
                <a:latin typeface="Times New Roman"/>
              </a:rPr>
              <a:t>(D.Barney)</a:t>
            </a:r>
            <a:endParaRPr b="0" lang="en-US" sz="4400" spc="-1" strike="noStrike">
              <a:solidFill>
                <a:srgbClr val="000000"/>
              </a:solidFill>
              <a:latin typeface="Times New Roman"/>
            </a:endParaRPr>
          </a:p>
        </p:txBody>
      </p:sp>
      <p:sp>
        <p:nvSpPr>
          <p:cNvPr id="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y of n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nal instrumentality: efficiency of means over worthiness of 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 space compression (D. Harv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ritorial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ity and custom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28760" y="571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CASTING?</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Rosen, The New  Atlantis (2006):</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7" name="Group 8"/>
          <p:cNvGrpSpPr/>
          <p:nvPr/>
        </p:nvGrpSpPr>
        <p:grpSpPr>
          <a:xfrm>
            <a:off x="0" y="1374840"/>
            <a:ext cx="9144000" cy="4108320"/>
            <a:chOff x="0" y="1374840"/>
            <a:chExt cx="9144000" cy="4108320"/>
          </a:xfrm>
        </p:grpSpPr>
        <p:sp>
          <p:nvSpPr>
            <p:cNvPr id="88" name="Rectangle 7"/>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6"/>
            <p:cNvGrpSpPr/>
            <p:nvPr/>
          </p:nvGrpSpPr>
          <p:grpSpPr>
            <a:xfrm>
              <a:off x="0" y="1374840"/>
              <a:ext cx="9144000" cy="4108320"/>
              <a:chOff x="0" y="1374840"/>
              <a:chExt cx="9144000" cy="4108320"/>
            </a:xfrm>
          </p:grpSpPr>
          <p:sp>
            <p:nvSpPr>
              <p:cNvPr id="90" name="Rectangle 5"/>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4"/>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remote control shifted power to the individual, and the technologies that have embraced this principle in its wake—the Walkman, the Video Cassette Recorder, Digital Video Recorders such as TiVo, and portable music devices like the iPod—have created a world where the individual’s control over the content, style, and timing of what he consumes is nearly absolute…  We have created and embraced technologies that enable us to make a fetish of our prefer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Rosen, The New Atlantis (20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and Society</a:t>
            </a:r>
            <a:endParaRPr b="0" lang="en-US" sz="4400" spc="-1" strike="noStrike">
              <a:solidFill>
                <a:srgbClr val="000000"/>
              </a:solidFill>
              <a:latin typeface="Times New Roman"/>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mentalis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s are neutral to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comes depend on how technolog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antivis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 embodies specific values &amp; ways of being in the 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constructivi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of technology determined by the social relations and local conditions that support the technology. Possibility of many different kinds of impacts depending on social interactio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Ts &amp; Social Transform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r view of technology as force for societal transformation (Toffler, 198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innovation seen as driver of transformation of core economic/social structures characteristic of capitalist societies for past 2 centu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 that ICTs are forging new modes of production and shifting economy from industrial to post-industrial mode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 versus New Economy</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ld’ Manufacturing in the Auto Sector</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i_paint1"/>
          <p:cNvPicPr/>
          <p:nvPr/>
        </p:nvPicPr>
        <p:blipFill>
          <a:blip r:embed="rId1"/>
          <a:stretch/>
        </p:blipFill>
        <p:spPr>
          <a:xfrm>
            <a:off x="785880" y="2071800"/>
            <a:ext cx="7705800" cy="370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ew’ Manufacturing in the Auto Sector</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5" descr="i_bodyAndWeld2"/>
          <p:cNvPicPr/>
          <p:nvPr/>
        </p:nvPicPr>
        <p:blipFill>
          <a:blip r:embed="rId1"/>
          <a:stretch/>
        </p:blipFill>
        <p:spPr>
          <a:xfrm>
            <a:off x="714240" y="2071800"/>
            <a:ext cx="7705800" cy="374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dism             Post Fordism</a:t>
            </a:r>
            <a:endParaRPr b="0" lang="en-US" sz="4400" spc="-1" strike="noStrike">
              <a:solidFill>
                <a:srgbClr val="000000"/>
              </a:solidFill>
              <a:latin typeface="Times New Roman"/>
            </a:endParaRPr>
          </a:p>
        </p:txBody>
      </p:sp>
      <p:sp>
        <p:nvSpPr>
          <p:cNvPr id="59"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1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to mid-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mechanized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d go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segmented process of production (assembly line)</a:t>
            </a:r>
            <a:endParaRPr b="0" lang="en-US" sz="2800" spc="-1" strike="noStrike">
              <a:solidFill>
                <a:srgbClr val="000000"/>
              </a:solidFill>
              <a:latin typeface="Times New Roman"/>
            </a:endParaRPr>
          </a:p>
        </p:txBody>
      </p:sp>
      <p:sp>
        <p:nvSpPr>
          <p:cNvPr id="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restructuring in 1980s to increase flexi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in time deliveries of special or small batch or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tening of management hierarc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Technology /Changing Workplaces</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s  amplified/ replaced physical labour &amp; increased material production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s production of goods &amp; transportation of go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y is production cent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consumption, manufacturing, motoriz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t 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digital technology amplifies mental labou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sion of information , information networks &amp; data ban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work environments,flexible work arrang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knowledge cre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01:58:01Z</dcterms:created>
  <dc:creator>myer siemiatycki</dc:creator>
  <dc:description/>
  <dc:language>en-US</dc:language>
  <cp:lastModifiedBy>Sheridan</cp:lastModifiedBy>
  <dcterms:modified xsi:type="dcterms:W3CDTF">2009-01-22T17:19:44Z</dcterms:modified>
  <cp:revision>22</cp:revision>
  <dc:subject/>
  <dc:title>Old versus New Economy</dc:title>
</cp:coreProperties>
</file>